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87A39-832D-4908-9C32-EFC54C517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F97AC-B5C8-4642-A021-2EBD010E4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D1F87-40B3-40F7-805C-FBA0B4867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8815E-3F73-4B31-BB99-56DF70CB4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EBA6A-2A73-44D4-8278-A159124DD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1B832-6F30-4DEA-83F1-E590A277A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C7A9F-3444-4704-B2BC-102334A26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D6873-9462-4D94-9F5A-00F642995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D4EA4-BF14-4522-8572-F1351AD0C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12269-AB46-4C51-88CC-85839EF5A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38DED-9DCC-487E-B71E-E509DB59F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C71DD-B6E7-474A-A891-59162A4E0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903D2-7947-44D4-BD60-7099D2B5D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E786C-B45B-46C3-906D-B66157506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2CC6C-2B53-46B8-B037-02B6FDA56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64C15-9944-4036-BE36-E3AD7A485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679DE-10E2-4296-A407-A69739BEE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57241-D637-42EB-933C-B1ADFD9BF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25C9F-F9A0-437C-92C9-86C26D1F5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CDA1A-63AC-49BA-9F4D-68F5EDCDC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5AA69-09B6-437C-BC88-6B29DEBCC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0331B-679B-4B8A-A05B-B8BF5DBA8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50A29-8F05-4B5B-B480-BDC1A7200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13D60-E97E-42C7-B7C6-C70C06C88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E8258-AD12-4543-96D7-FBA6339BA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B4DBD-D1CB-4879-B70D-855DE1AD8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DCED1-BD96-4874-93D8-DFBA92B2E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900-D030-4AD7-9D59-5E449060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49F2-A421-44B4-8C9D-DC89360A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D33-90BD-44DC-9E95-663A5FE5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8DA-AC7A-41B1-94EE-F09BC414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E6A-7798-433F-906C-FB955109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D74-1835-437B-A147-8C5AEA7F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C2C-A9D6-4E6A-AFDE-DBF74600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B10-4A44-4FB2-AE71-D68A0691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45D-1187-43B8-AF3F-86F5926D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B86-69B0-41D6-BC23-0F507AB8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DCF-971A-41B9-8B43-7EC4D6C8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C81-8239-4A5D-B653-24E4B6F9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E9A14-B2B1-4441-8E5F-83618CD4C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sers.soe.ucsc.edu/~gsmith/tanagra/fdgdemo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M3v0tbdKrs&amp;feature=c4-overview&amp;list=UUSv0OrQI0ROI8z1d9X1zxe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10800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-3405240" y="1789200"/>
            <a:ext cx="8686800" cy="1600200"/>
          </a:xfrm>
          <a:prstGeom prst="roundRect">
            <a:avLst>
              <a:gd name="adj" fmla="val 97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16504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Mixed-Initiativ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rocedural Content Generation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746600" y="6310440"/>
            <a:ext cx="5154480" cy="606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4716360" y="6937200"/>
            <a:ext cx="5222880" cy="478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448000" y="3886200"/>
            <a:ext cx="30384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onios Li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llian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or Sh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>
            <a:off x="1094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144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065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n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06520" y="1768320"/>
            <a:ext cx="907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ow can the method for control over content be balan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rect control/mode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that changes human choi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ing turns relinquishing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1"/>
          <p:cNvSpPr/>
          <p:nvPr/>
        </p:nvSpPr>
        <p:spPr>
          <a:xfrm>
            <a:off x="1094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144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065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n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06520" y="1768320"/>
            <a:ext cx="90709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ow to resolve conflicts that arise due to the human stating conflicting des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o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 mess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lent “crash” (ignore own desir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solutions to minimize confli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1"/>
          <p:cNvSpPr/>
          <p:nvPr/>
        </p:nvSpPr>
        <p:spPr>
          <a:xfrm>
            <a:off x="1094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144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065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n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065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ow expressive is the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it only make weapons for Diabl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it create unplayable lev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it only create balanced hero a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"/>
          <p:cNvSpPr/>
          <p:nvPr/>
        </p:nvSpPr>
        <p:spPr>
          <a:xfrm>
            <a:off x="1112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324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065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n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065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an the computer explain it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it simply following the ru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it learning from the human us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it learning from itsel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5047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0800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0" y="2057400"/>
            <a:ext cx="8686800" cy="1600200"/>
          </a:xfrm>
          <a:prstGeom prst="roundRect">
            <a:avLst>
              <a:gd name="adj" fmla="val 97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04720" y="2165400"/>
            <a:ext cx="907092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xamples of “Smart”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AD Tools for 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448000" y="3886200"/>
            <a:ext cx="303840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ah, we'll talk about our ow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1"/>
          <p:cNvSpPr/>
          <p:nvPr/>
        </p:nvSpPr>
        <p:spPr>
          <a:xfrm>
            <a:off x="1112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324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065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anag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065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D platf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ability ensured via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and change level according to p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 can “lock” geometry, computer changes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729320" y="4114800"/>
            <a:ext cx="51004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"/>
          <p:cNvSpPr/>
          <p:nvPr/>
        </p:nvSpPr>
        <p:spPr>
          <a:xfrm>
            <a:off x="1112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324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0796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ke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0796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p Sketches (strategy game, dungeon, FPS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solutions evolved &amp; shown in re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tnesses on area influence, exploration and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raints on playability handled with FI-2pop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504828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 rot="16200000">
            <a:off x="1461240" y="3567600"/>
            <a:ext cx="18748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"/>
          <p:cNvSpPr/>
          <p:nvPr/>
        </p:nvSpPr>
        <p:spPr>
          <a:xfrm>
            <a:off x="1112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324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0796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Roposs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0796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s-based puzzle “cut the rop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olutionary grammars for creating new puzz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ability module for testing how (if?) to solve a puzz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designer’s input in complete or partial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"/>
          <p:cNvSpPr/>
          <p:nvPr/>
        </p:nvSpPr>
        <p:spPr>
          <a:xfrm>
            <a:off x="10800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2057400"/>
            <a:ext cx="8686800" cy="1600200"/>
          </a:xfrm>
          <a:prstGeom prst="roundRect">
            <a:avLst>
              <a:gd name="adj" fmla="val 97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04720" y="22161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Interactive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50539" t="0" r="0" b="0"/>
          <a:stretch/>
        </p:blipFill>
        <p:spPr>
          <a:xfrm>
            <a:off x="914400" y="4114800"/>
            <a:ext cx="617220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1"/>
          <p:cNvSpPr/>
          <p:nvPr/>
        </p:nvSpPr>
        <p:spPr>
          <a:xfrm>
            <a:off x="1094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144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065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nteractive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06520" y="1768320"/>
            <a:ext cx="907092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ve Evolution uses human input to evaluat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ing a fitness function is not always eas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e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ationally-he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5047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10800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0" y="2057400"/>
            <a:ext cx="8686800" cy="1600200"/>
          </a:xfrm>
          <a:prstGeom prst="roundRect">
            <a:avLst>
              <a:gd name="adj" fmla="val 97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04720" y="22161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Mixed-Initiati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657600" y="3886200"/>
            <a:ext cx="342900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do you think that me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1112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"/>
          <p:cNvSpPr/>
          <p:nvPr/>
        </p:nvSpPr>
        <p:spPr>
          <a:xfrm>
            <a:off x="324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065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volutionary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06520" y="1768320"/>
            <a:ext cx="520848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utionary Art and Music: how do you evaluate a “good” painting or sonn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914400" y="3382920"/>
            <a:ext cx="4343400" cy="3932280"/>
          </a:xfrm>
          <a:prstGeom prst="rect">
            <a:avLst/>
          </a:prstGeom>
          <a:ln w="18360">
            <a:solidFill>
              <a:srgbClr val="000000"/>
            </a:solidFill>
            <a:miter/>
          </a:ln>
        </p:spPr>
      </p:pic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5715000" y="5108400"/>
            <a:ext cx="4114800" cy="2206800"/>
          </a:xfrm>
          <a:prstGeom prst="rect">
            <a:avLst/>
          </a:prstGeom>
          <a:ln w="18360">
            <a:solidFill>
              <a:srgbClr val="000000"/>
            </a:solidFill>
            <a:miter/>
          </a:ln>
        </p:spPr>
      </p:pic>
      <p:pic>
        <p:nvPicPr>
          <p:cNvPr id="141" name="Picture 7" descr=""/>
          <p:cNvPicPr/>
          <p:nvPr/>
        </p:nvPicPr>
        <p:blipFill>
          <a:blip r:embed="rId3"/>
          <a:stretch/>
        </p:blipFill>
        <p:spPr>
          <a:xfrm>
            <a:off x="5715000" y="1828800"/>
            <a:ext cx="4124160" cy="3060720"/>
          </a:xfrm>
          <a:prstGeom prst="rect">
            <a:avLst/>
          </a:prstGeom>
          <a:ln w="18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1"/>
          <p:cNvSpPr/>
          <p:nvPr/>
        </p:nvSpPr>
        <p:spPr>
          <a:xfrm>
            <a:off x="1094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"/>
          <p:cNvSpPr/>
          <p:nvPr/>
        </p:nvSpPr>
        <p:spPr>
          <a:xfrm>
            <a:off x="144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065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User Fatig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065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gnitive burden from too many/too complicated human eval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wd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er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rete rat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ance-based fitness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 shown a subset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47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094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440" y="2057400"/>
            <a:ext cx="8686800" cy="1600200"/>
          </a:xfrm>
          <a:prstGeom prst="roundRect">
            <a:avLst>
              <a:gd name="adj" fmla="val 97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04720" y="2165400"/>
            <a:ext cx="907092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xamples of Interactiv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Evolution for 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"/>
          <p:cNvSpPr/>
          <p:nvPr/>
        </p:nvSpPr>
        <p:spPr>
          <a:xfrm>
            <a:off x="1112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324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065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alactic Arms 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065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pon projectiles evolved via neuroevolution of augmenting top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times fired = player p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ayer: averaged firing rates across p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0" t="0" r="0" b="3162"/>
          <a:stretch/>
        </p:blipFill>
        <p:spPr>
          <a:xfrm>
            <a:off x="4772160" y="4230720"/>
            <a:ext cx="5057640" cy="30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1112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324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065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ORCS interactive 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06520" y="1768320"/>
            <a:ext cx="452268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itional” Interactive Evolution for race-tr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s as Bezier splines with evolving control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ved vi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ke/dislik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 sta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single-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ved via averag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multiple-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5257800" y="1798560"/>
            <a:ext cx="4572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1"/>
          <p:cNvSpPr/>
          <p:nvPr/>
        </p:nvSpPr>
        <p:spPr>
          <a:xfrm>
            <a:off x="1112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324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065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paceship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065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ceship hulls and thrusters/weapons evolved via neuroevolution of augmenting top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ceships evaluated on symmetry, simplicity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5423040" y="3621240"/>
            <a:ext cx="4406760" cy="36939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19040" y="3579840"/>
            <a:ext cx="483876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2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icted fitness via user-selected favori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weight of fitnesses present in selected 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e.g. selecting symmetrical spaceships = higher symmet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"/>
          <p:cNvSpPr/>
          <p:nvPr/>
        </p:nvSpPr>
        <p:spPr>
          <a:xfrm>
            <a:off x="179280" y="179280"/>
            <a:ext cx="9720360" cy="719928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"/>
          <p:cNvSpPr/>
          <p:nvPr/>
        </p:nvSpPr>
        <p:spPr>
          <a:xfrm>
            <a:off x="324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503280" y="1768320"/>
            <a:ext cx="77756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5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065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1"/>
          <p:cNvSpPr/>
          <p:nvPr/>
        </p:nvSpPr>
        <p:spPr>
          <a:xfrm>
            <a:off x="1094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1440" y="2057400"/>
            <a:ext cx="8686800" cy="1600200"/>
          </a:xfrm>
          <a:prstGeom prst="roundRect">
            <a:avLst>
              <a:gd name="adj" fmla="val 97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04720" y="22161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Mixed-Initiati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28600" y="3905280"/>
            <a:ext cx="43434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 desi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ational desi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1"/>
          <p:cNvSpPr/>
          <p:nvPr/>
        </p:nvSpPr>
        <p:spPr>
          <a:xfrm>
            <a:off x="1094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1440" y="2057400"/>
            <a:ext cx="8686800" cy="1600200"/>
          </a:xfrm>
          <a:prstGeom prst="roundRect">
            <a:avLst>
              <a:gd name="adj" fmla="val 97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04720" y="22161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Mixed-Initiati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85800" y="3905280"/>
            <a:ext cx="34290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liding sc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typ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act of each of the human or computer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1"/>
          <p:cNvSpPr/>
          <p:nvPr/>
        </p:nvSpPr>
        <p:spPr>
          <a:xfrm>
            <a:off x="10800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liding Scale of 'initiative'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047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 primary initiative, computer as 'slave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puter-Aided Design (C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creating content, human as 'guide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active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rcRect l="0" t="12369" r="52370" b="0"/>
          <a:stretch/>
        </p:blipFill>
        <p:spPr>
          <a:xfrm>
            <a:off x="914400" y="2955960"/>
            <a:ext cx="4800600" cy="1471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rcRect l="50539" t="0" r="0" b="0"/>
          <a:stretch/>
        </p:blipFill>
        <p:spPr>
          <a:xfrm>
            <a:off x="914400" y="5643720"/>
            <a:ext cx="4984920" cy="16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1"/>
          <p:cNvSpPr/>
          <p:nvPr/>
        </p:nvSpPr>
        <p:spPr>
          <a:xfrm>
            <a:off x="10800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0" t="12369" r="52370" b="0"/>
          <a:stretch/>
        </p:blipFill>
        <p:spPr>
          <a:xfrm>
            <a:off x="922320" y="4125960"/>
            <a:ext cx="5943600" cy="18223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3"/>
          <p:cNvSpPr/>
          <p:nvPr/>
        </p:nvSpPr>
        <p:spPr>
          <a:xfrm>
            <a:off x="0" y="2057400"/>
            <a:ext cx="8686800" cy="1600200"/>
          </a:xfrm>
          <a:prstGeom prst="roundRect">
            <a:avLst>
              <a:gd name="adj" fmla="val 97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04720" y="22161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mputer-Aided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1"/>
          <p:cNvSpPr/>
          <p:nvPr/>
        </p:nvSpPr>
        <p:spPr>
          <a:xfrm>
            <a:off x="10800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reativit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047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for non-expert desig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ic crayons” and ske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ware that supports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vice’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ea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ile also be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ui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werfu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>
            <a:off x="1094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144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n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047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ho is your target aud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essional design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vices/Ki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"/>
          <p:cNvSpPr/>
          <p:nvPr/>
        </p:nvSpPr>
        <p:spPr>
          <a:xfrm>
            <a:off x="109440" y="108000"/>
            <a:ext cx="9829800" cy="7315200"/>
          </a:xfrm>
          <a:prstGeom prst="roundRect">
            <a:avLst>
              <a:gd name="adj" fmla="val 19"/>
            </a:avLst>
          </a:prstGeom>
          <a:solidFill>
            <a:srgbClr val="ffd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1440" y="457200"/>
            <a:ext cx="8686800" cy="914400"/>
          </a:xfrm>
          <a:prstGeom prst="roundRect">
            <a:avLst>
              <a:gd name="adj" fmla="val 171"/>
            </a:avLst>
          </a:prstGeom>
          <a:solidFill>
            <a:srgbClr val="000000"/>
          </a:solidFill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n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04720" y="1768320"/>
            <a:ext cx="907092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hat novel and useful editing operations can be incorpor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ated Refin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nt Sim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hythm Assess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Pattern Recogni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20:28:05Z</dcterms:created>
  <dc:creator/>
  <dc:description/>
  <dc:language>en-US</dc:language>
  <cp:lastModifiedBy>Noor Shaker</cp:lastModifiedBy>
  <dcterms:modified xsi:type="dcterms:W3CDTF">2013-11-07T09:54:44Z</dcterms:modified>
  <cp:revision>132</cp:revision>
  <dc:subject/>
  <dc:title> Mixed-Initiative  Procedural Content Generation</dc:title>
</cp:coreProperties>
</file>